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2734-93C1-42D6-B610-36896FC1B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7E2E-D938-449B-A739-372279D7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9877-67F5-4DD2-AD39-7D243FCFA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B319-2B47-49EA-86E1-209A2307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20CD-E780-4580-B153-6275662ED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A4D4-DB37-4D93-8D14-59C505CC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C017-3A21-4A90-8897-FE2E58E7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3DA1-CA94-4711-8896-90B688ED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5DCB-0FBE-4711-BADD-BCBB7F1A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6B05-7A41-42DA-A412-598DA4C4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207A-A2D5-4BCD-A9FE-48678F67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4C7E-8BF4-48E2-A382-45A85AEC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1E26-DDFF-45FA-BF4B-65AC0889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F33C-77CC-406F-ADEC-22CAB76B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C1A1-5761-494C-9D98-59017D64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4F5C-9099-438B-B938-29EB4E43A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9CBA-C5D2-466D-853C-29CBF2A2E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65A7-ADA8-4DAE-A10B-10F8A377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DC09-0B8F-4113-9322-6D973D34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F30A-7C29-4532-A704-4CE1CC1D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6909-A7EA-4D93-AE35-724AE1F8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81AC-22BA-4023-9F89-01ACA6E8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D216-7EA7-471C-A8A4-9EB4B3AD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E1EE-E23B-4B72-B8C5-3B5271CF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8D25-790E-4D5D-A72B-4406C0E2B90C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6830-CB04-4400-952E-B33A84B8C432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24000" y="838080"/>
            <a:ext cx="6696000" cy="518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190520" y="843120"/>
            <a:ext cx="676296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14280" y="852480"/>
            <a:ext cx="67154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24000" y="861840"/>
            <a:ext cx="669600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233360" y="833400"/>
            <a:ext cx="667728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24000" y="852480"/>
            <a:ext cx="6696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14280" y="843120"/>
            <a:ext cx="671544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224000" y="852480"/>
            <a:ext cx="6696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5T07:51:07Z</dcterms:created>
  <dc:creator>0mar a. ali</dc:creator>
  <dc:description/>
  <dc:language>en-US</dc:language>
  <cp:lastModifiedBy>0mar a. ali</cp:lastModifiedBy>
  <dcterms:modified xsi:type="dcterms:W3CDTF">2006-06-26T12:21:35Z</dcterms:modified>
  <cp:revision>3</cp:revision>
  <dc:subject/>
  <dc:title>Slide 1</dc:title>
</cp:coreProperties>
</file>